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8AB-7A44-48B7-9DF4-E186291A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411-E516-4A8D-9151-2C7D5E31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291FD-3833-4F2C-827C-E1C3F90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E9B00-AA20-4B9F-806F-FC2FF81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0417C-8610-4452-8D4F-FC8B8E5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884EB-3490-4825-8757-6DFF6A1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01DB4-B35F-4956-AC79-342F2CF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2E53B-B7EB-418D-8D1D-C4BC1AB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2E260-4823-45AF-BDDB-464A582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9BB9A-9F0E-497C-846D-E770C9B3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71385-C630-43F3-A41D-D0AC3E46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B957C-09E1-40A7-8B41-39DADBA8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152-02B4-4625-839A-9E988E20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351B9-E2AB-44EC-8840-8D5D42EC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40F5A-4B21-45BE-8682-C047D40E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5B647-5F69-4615-890F-09387C05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6FFDA-29AA-4ADD-B864-1B6B3F0A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7A54-ECC2-445E-BD1C-CD8E30F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BB611-8536-4205-8ADB-98F3ADF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47C3-7384-4CB3-9C34-28F4545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9510A-AE4F-4E69-8845-EB601797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23987-6673-4952-9D9F-2CE42E1B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7914F-21F5-444E-97FB-779CD782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561-ADB6-43F6-B0DA-3AE1A934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E60A3-1945-45F2-961B-84CC6DD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4D130-48E9-4E1F-B6B3-2532BB9B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3B603-4859-44A9-A187-49EFD7CE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DB920-2F7F-4916-850A-DDD6BC38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C5C62-2AF0-4B77-864B-2C6B964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ABA8-643C-48F6-B0F2-AB9D5D0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26872-BAB1-4D92-B012-C28DEF7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A9302-9162-4907-8D14-D661513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AF50-D33C-486B-A24C-6746930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63EFD-E548-4644-A187-DC7EEF4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58B-AB03-43B2-BE12-4B1DFF11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461DB-9CEF-46AF-A932-6105913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E9E0-1877-4031-AE19-45926056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EE134-0968-4072-B286-E41E6B41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18C93-0F9C-42CF-9609-6362DAF6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250D2-E4AC-41AD-8194-1FCFD43A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5D320-66D6-4D37-AB86-0B31CFE1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E81F0-6B14-42BA-8F1D-931D116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DAA26-E340-491C-B526-8E748D20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E1108-406D-4FCF-9590-AF89D6C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714E3-8002-4D76-82E7-D2A1ECFC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9ECC-1BCE-482D-AFC8-79A2CCB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33085-F3B2-4697-B951-B9C116D7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B9FA4-D2A9-4B66-B36E-77CC093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88E58-B427-4840-ABD8-567BED9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F6F02-E381-471D-9FA0-FDBFFB1C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CF984-ED7C-4811-BA92-DB752D6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515CA-ADF8-4099-BC75-65A1B4BF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740E0-F621-4811-A12D-47EFC224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62A19-5964-4887-872D-D7F76365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7F45E-32F8-4BD1-A757-ED482CCA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B44DE-C4E8-4342-85E1-9BBD3CA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86E0-537F-47E6-9909-72D499EE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25A9E-1D9C-4F3D-9C27-12C5428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64EAE-C28F-4102-9204-3786049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F60B3-FE4B-4DD8-BE90-29A020BF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A0B2B-0252-4077-A522-BFCE1F0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C5D7-FA6F-46B7-864A-580B809D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DB81E-7489-4E07-9130-D984C81B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CCDA0-A6AB-4CDA-8A96-ED0192A0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6CFB4-455F-4A7E-93E0-BB6CD17F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82D9A-76E9-4B81-AF48-7ADB325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E73A7-D0DA-4922-9454-2D9D748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D17C-E150-4B9F-9359-66C12A0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6F229-F393-45E6-B5A0-B46856C7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FB996-4166-41FD-8DCF-6EF9166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DFCD0-F731-46B7-AD61-2AC0AEC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9FB5D-B1B8-4E3C-8E12-50142613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98FA9-13D0-4497-BEFB-F9F29AA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93A36-D545-404F-A317-1E8366C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56AD2-72F0-42C1-934B-445E9DDD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18E83-415F-4FCC-ACF5-4C77ECE3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CF332-B077-4F25-893D-F47462D3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5A609-B6D2-4B6B-ACB1-AADDC340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2BF-5B94-4B47-9904-8B61B63E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1626C-694D-43C2-967A-DAC5B543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35570-746B-465B-8A0A-BE46083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EBAC1-04F3-491F-96CC-850F291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3982F-E428-445A-8435-F84D059D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07341-628B-4A7C-B77B-ACAD5F77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3BDE3-DA65-486B-86A4-239298BA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7F662-90B8-4B8E-892B-94BED8EE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39796-7A4A-44EF-A307-60A1B52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6820C-C889-42EE-A464-9877D2E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64591-631D-4742-8928-BCD3B305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9AD-68F8-43BE-A061-E4B0709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2D43A-0E16-48BC-9F33-5C9E2CDE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E43B6-A3E6-4BC6-81E4-7DC05E96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CCB38-1121-4801-95C6-76CF5EA8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43A41-357E-4FE4-BB4C-F50036FD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AE3A8-5AD9-416D-A3AE-F8764E2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B0D22-10B5-4A46-8FBE-7545053B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781B3-B4A6-4563-8AE7-74BF072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20AC2-947C-4480-9ECE-D72377D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7FCC3-4E39-4B1E-B881-D6CFBF38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344CD-7F8E-40BF-9DC4-6DC5183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5B20-E98C-4E8E-98E4-1195C48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DA3D4-7ED0-4FB0-B9B8-C86DE61A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66684-00D4-4319-9AD4-1C2D8415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8C77C-BD2F-47A0-97E4-EAF9223B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D12A7-E5E9-43AD-8755-3AC307D5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705FD-35EB-49EA-896E-B4BE4A8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3BC0A-23A8-4CFA-8603-4D6CC81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BC10A-E088-4337-AFEA-FBE0583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22855-6F37-45A3-973E-B977E00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A3BC2-3F2A-4E98-A71F-C98A723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03AD8-CC9C-45DD-88ED-A868266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BC0-7D5D-43BB-9E1E-832EEE4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60D-A197-4FCF-B437-03892E2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EE3BB-9D50-4CAC-B0B3-433B140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04E94-CBD0-4655-BBBE-0DE69F0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0D17E-A9BE-4934-BFB1-22AE7A1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B16F2-9A31-406A-B381-C4890AEF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5FD48-91D4-4A04-9459-172759DA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C0372-FB43-4DA2-8389-63085700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B4AA9-274B-43FF-9B0D-AA5B8445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D398C-7C8E-4AA4-83B0-648AF43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B3268-0313-4FA9-B26C-AC70A6B9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AD574-F407-48CF-8B37-2C1D856E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FAF7-8C8F-49DA-BEAA-5AB4CC7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8EAD0-DF43-4029-B88E-1238022A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136DC-5893-4B34-A1F3-B06D4B6B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4F437-0EE0-497C-9A67-73CED26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4EB8D-5AF6-435A-A770-7855E84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D4445-B4F8-410D-BEF3-CCA720FE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D8F05-7FC6-4306-A355-0B62006E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4D97B1-F99F-465F-9076-0163434B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ADE37-2D02-4570-8980-F6C0561E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0D875-8984-40FE-B31F-54020B5D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24D6A-5EC3-4CCF-AE60-FB7B84C5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6BD-B1A1-4B04-844C-58131ED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5D803-A3DF-46BB-8BBE-EAC28569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97335-E420-4F93-8C58-6B4C474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A16CA-92F3-4359-BDFE-B75EB718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58B25-0777-4261-B75A-202414E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443D4-1298-4FAF-9F18-5BB1BF25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91D30-A9F9-4392-9854-B5C291A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34F37-3760-4514-B919-7C0ADAF8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41B59-1715-4852-96CB-7DEB1FD1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C0F3E-2522-4F73-86B2-E08F36EA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8771F-9B45-4124-9151-3A1303FF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A4AB-0177-456D-B6F4-CCE7FDD3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7E934-121F-43E7-8EDD-E35B8C10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7486E-E9B4-4BB0-8200-6A9D0628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01562F-1279-49A8-A3DC-D3297E75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8AF8B-247C-4EA2-889D-5E10E44B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B6A297-1C14-4913-BA8A-55E4E51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3C25A-4B7A-4A64-AD33-530BDB7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9CE3B-C93C-4561-AD77-C944909F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D2A7D-E221-484F-AB55-B44A72D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2BC79-1A84-4441-9763-AF682FC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4D86C9-371D-4806-AB4A-42690F61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74F-860C-420D-8A10-E71D3F52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B05E0-0396-45A2-8E8D-13B0C0EE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25785-1599-4D7D-872B-66347D9C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A14CB-6945-42B8-A5D4-9348ADE8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62BBEA-2697-4CCD-9F84-7A9CBA31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48BD1-9F14-46BD-A656-C0F9A44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E6737-72E6-4FAB-8075-1823158C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DC206C-5CD8-4097-95DC-1795649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3ED5F4-56C3-4E13-8F13-D0B52AD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89093-AEF3-4E86-9FDE-1C2C546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7AA6F-02F2-4CDC-97F4-9A7E3A3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D643-2051-45DC-A414-DF3F5A76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18087-46BF-4E8B-84D5-5B7CECB3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3BEC4-D859-48B1-B806-6729F062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C2C64-75FA-47F5-82E2-8FC17FE4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9A02-0548-458B-824D-BCE9889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8FF5-4338-4577-B5A6-36CF151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DC36-20B6-4A99-9240-35D84F90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2733-491E-4C05-BBE1-9F74F856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848-3C80-40CF-8256-F8530875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7109-09C8-4AC1-B5E0-D416CA1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7017-8F7C-448B-8D80-960D6F43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0B8A-E79C-47C2-9BDC-E8B9D45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DD7C-6B4D-4028-ADAD-613F1C8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7A3C-56E6-4694-AFEA-FC122C28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0424-21E4-48D0-832B-7BE832B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FADA-00CF-41C9-B5D5-67486A06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B954-206E-455D-9FAB-F9BA8B80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2282-291B-49D9-B0B6-0FDA2BC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C344-E01F-4C30-A637-4ADDDC4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AA8-3FC1-4BEA-913E-0406CB8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2D04-B92D-4EDF-A2BC-D188D23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6D01-150A-49E3-A5AC-DB201F3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AA0E-FF90-46E1-9DA0-EAC85134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0A56-C4CE-4E47-9EC3-905656B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A0EDB-D897-4EC5-A41E-E4B24AF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8156-D64F-4255-87DA-1E4F144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D860-6078-4DD2-86D0-7D326F3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2EF1-B2B7-41A6-9E70-4E75F360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7E3A-3236-45B4-9B58-AAA45865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68B2-BD26-4736-AEF0-2120484B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BB2-09B3-4CF6-9C61-B88A652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844B-4F05-434F-861B-6D909062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15A0-02D5-4722-AB53-C2FD32D8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B92F-DEC2-418D-B1CE-499CC05D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51029-CAE4-4325-9BA7-39334F87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43B8-3D45-44C4-B3FC-3CD6BAF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1182-2B23-462E-86D1-C13172F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F246-C738-46E3-9431-21A7DE3B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FF8A-0D82-43D1-B987-D9DB657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0847-1C6C-482A-A6A6-68FF1E67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B99B-A9B2-4863-9EC1-82E47B23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E91-E3C4-48BF-B6E0-10CD3E7D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59AD-8BA5-4942-B295-99677328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F481F-6D08-4E3A-8FAE-5A7FA452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FDD2-0945-435B-BADA-5CDC6B3B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888F-B769-4C57-9FA2-3186E4B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AA98-D36D-4A94-B1EF-E85E9A1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ACD0-D97C-4D07-B526-A102555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EDAB-BEEA-4BED-8F70-E77E00A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2960-B96F-4B68-8A0F-D549BDA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990A1-4EF3-4599-9BAD-84D760F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C63C-5BE8-45DF-8C9C-999ADE76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D72-5B9F-45B1-81C4-5D29ADC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BFFD-849B-4822-9C67-BE9C5D6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EBE42-846F-499B-BB0E-33BA7914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EAC80-00B0-4922-8039-258ACBAE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73E8-E1A4-4E46-A8BA-9EBE60DC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86C3-717C-4067-8F72-8DEB0C8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D197-102B-4EA2-8C7C-F08B400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9540-B942-479C-85B3-0C29770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E866-6802-4C84-9ABA-18713EA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A81A-CBA6-4A99-9394-7886FF5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391B-11C3-4CBF-9241-3CE7094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7E4-CB08-42EE-82BC-FF535C8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45C2-E120-43E0-92DA-420D0A9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4A49-03A8-44EA-B24B-DC20A31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A178-DE64-4892-BAF6-D764ACC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B89A-9D37-4A8E-B91C-8E86B4E2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B490F-8316-4605-A402-2827F0EF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E8FA-4255-4F66-A30A-670F1079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2ED9B-747E-4B5B-B80D-DA491A54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A792-EEEA-4B08-AFEC-626E59C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BB1E9-B654-412B-8CF5-9DD84129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EF1E-E655-4543-B673-60D3A4A0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F05-4986-4C37-8F52-945ED804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4673-379C-422F-9D29-8B40FDE6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CAE5-EA8C-4332-BCB0-30004B4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55687-C933-4753-B1A7-2832365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9B8E-444C-4342-AEA9-692465C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1CD5-1317-4A6B-9227-FC9AE2BC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82D83-C7D4-4E1D-B43C-6BDCB8C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2C009-36A6-451B-84EE-EF425D5F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A8FFF-0659-4748-8FA8-D3371E28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E66D6-6719-4F8F-B01E-1E9E8AE2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D90A3-3ABB-4464-B92F-6F0B36E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4BC2-2D82-48C9-814A-F31068664C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B74D-F58A-45CA-9630-496EE96C45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1DE5-ED21-4010-AAA4-F09A54118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82A-760E-4B92-A905-A31276A56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AFCD-A418-479C-91D1-25E0D6EBC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A73-93E2-4BA6-8275-01B5A5768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6F70-39FC-4BC1-A31D-32BB60E9C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F48-2548-4D4E-9B5F-6EC6FBB70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58AC-0B46-40DF-97B3-B65B7A641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D57-E872-442E-85D0-478820512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2EA1-5C25-48D9-A830-13BB100E1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C1C-0D65-4C6F-899F-741B73A24B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182-4844-4E86-9C1C-B3E3C31EE5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DA55-9814-4FFE-8677-8F01749143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BA5-C47E-40F6-B216-5EE55318EE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3A2-9681-4834-A377-B3984E9C9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6CDB-A2D5-4789-84C6-8D5D1011D4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950-4B09-4FA7-8DC5-A8EC37E82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388-D947-42D4-B384-FC5409A8F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2C8-FFA6-47B3-B015-312F63C7C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04C0-C9C9-4DEF-8BCA-36426EA7A7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03A7-BE6E-4904-9EA9-30F9E3D5D9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17ED-D896-41AF-9E66-63A489603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A517-BB55-4671-B56A-44C83F1C6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C31F-DE3C-4A18-BE54-2330AD460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1C17-76F0-4C75-87E7-D5D03C891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64B1-8777-4422-BCDE-262530F66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6B40-5A7C-4AB8-999B-147D42B6AF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2DCF-50CB-4B6E-A48A-D224C7D5A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EF27-FE97-4754-9C50-CCE1C888B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A9B8-CDC3-4D1F-8C7E-59C9A053D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D7F-2E1A-4167-996C-DCCE09151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7CB-C6CD-48F0-AC4B-22A3643C42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0F2C-78FF-4858-9019-034EEE2095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A30A-07D6-4ECD-BB57-E0E325236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A79-EF22-4E0D-AF46-66D314A6F8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EE3-5938-4364-BF4F-5524DE0C1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A55-75D3-43B1-86A8-D3CAAB675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FB4-572D-42F2-8F9C-9875A759D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D41-E242-41A9-ABB5-96FFBC420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90680" y="3005280"/>
            <a:ext cx="81626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266760" y="735120"/>
            <a:ext cx="8610480" cy="59338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4284720" y="35146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403280" y="420696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236000" y="4869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3995640" y="6165720"/>
            <a:ext cx="1800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8609" descr=""/>
          <p:cNvPicPr/>
          <p:nvPr/>
        </p:nvPicPr>
        <p:blipFill>
          <a:blip r:embed="rId1"/>
          <a:stretch/>
        </p:blipFill>
        <p:spPr>
          <a:xfrm>
            <a:off x="1090440" y="1413000"/>
            <a:ext cx="6963120" cy="211428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68610" descr=""/>
          <p:cNvPicPr/>
          <p:nvPr/>
        </p:nvPicPr>
        <p:blipFill>
          <a:blip r:embed="rId2"/>
          <a:stretch/>
        </p:blipFill>
        <p:spPr>
          <a:xfrm>
            <a:off x="209520" y="3720960"/>
            <a:ext cx="8724960" cy="22291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356000" y="17874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7365960" y="162864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4427640" y="250668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164360" y="2637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476360" y="4091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4629240" y="4149720"/>
            <a:ext cx="102240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8524800" y="41194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1677960" y="482616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4830840" y="4941720"/>
            <a:ext cx="1022400" cy="493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7956720" y="4970520"/>
            <a:ext cx="1022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1220760"/>
            <a:ext cx="8610480" cy="544824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150840" y="87480"/>
            <a:ext cx="4133880" cy="1180800"/>
          </a:xfrm>
          <a:prstGeom prst="rect">
            <a:avLst/>
          </a:prstGeom>
          <a:ln w="0">
            <a:noFill/>
          </a:ln>
        </p:spPr>
      </p:pic>
      <p:grpSp>
        <p:nvGrpSpPr>
          <p:cNvPr id="924" name="组合 60432"/>
          <p:cNvGrpSpPr/>
          <p:nvPr/>
        </p:nvGrpSpPr>
        <p:grpSpPr>
          <a:xfrm>
            <a:off x="493560" y="3141720"/>
            <a:ext cx="8220240" cy="1258920"/>
            <a:chOff x="493560" y="3141720"/>
            <a:chExt cx="8220240" cy="1258920"/>
          </a:xfrm>
        </p:grpSpPr>
        <p:pic>
          <p:nvPicPr>
            <p:cNvPr id="925" name="图片 60430" descr=""/>
            <p:cNvPicPr/>
            <p:nvPr/>
          </p:nvPicPr>
          <p:blipFill>
            <a:blip r:embed="rId3"/>
            <a:stretch/>
          </p:blipFill>
          <p:spPr>
            <a:xfrm>
              <a:off x="493560" y="3514680"/>
              <a:ext cx="822024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1" descr=""/>
            <p:cNvPicPr/>
            <p:nvPr/>
          </p:nvPicPr>
          <p:blipFill>
            <a:blip r:embed="rId4"/>
            <a:stretch/>
          </p:blipFill>
          <p:spPr>
            <a:xfrm>
              <a:off x="2050920" y="3141720"/>
              <a:ext cx="4826160" cy="49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659640" y="56037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4716360" y="60498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62040" y="1886040"/>
            <a:ext cx="7819920" cy="308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372360" y="3759120"/>
            <a:ext cx="129528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29528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1295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66760" y="952560"/>
            <a:ext cx="8610480" cy="4952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7236000" y="2924280"/>
            <a:ext cx="1008000" cy="1009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143964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5292720" y="5388120"/>
            <a:ext cx="144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609480" y="1138320"/>
            <a:ext cx="7925040" cy="4581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100800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443640" y="450864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443640" y="5157720"/>
            <a:ext cx="100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609480" y="2490840"/>
            <a:ext cx="7925040" cy="1876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318960" y="1362240"/>
            <a:ext cx="8506080" cy="4133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5302" descr=""/>
          <p:cNvPicPr/>
          <p:nvPr/>
        </p:nvPicPr>
        <p:blipFill>
          <a:blip r:embed="rId2"/>
          <a:stretch/>
        </p:blipFill>
        <p:spPr>
          <a:xfrm>
            <a:off x="1566720" y="3421080"/>
            <a:ext cx="6724800" cy="743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71640" y="4264200"/>
            <a:ext cx="792144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792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266760" y="1209600"/>
            <a:ext cx="86104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685800" y="809640"/>
            <a:ext cx="7772400" cy="5238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116000" y="2133720"/>
            <a:ext cx="6840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042920" y="2781360"/>
            <a:ext cx="684072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116000" y="4754520"/>
            <a:ext cx="684072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1042920" y="5402160"/>
            <a:ext cx="684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4:5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